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C90-212A-463F-AC03-C5582107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343-7DC6-46D9-B757-E6A884E8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23F3-A09F-463D-A54F-C72C97E9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9C43-F412-4331-BCCF-79A8D4E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6BB64-D030-410F-B77B-3CAD24BD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28C90-C1D3-4A2F-818E-9D6C8B73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1C37-E4EF-4FB4-B2DA-58D32C8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E0C6-E8AB-482A-9FB7-F892006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D2701-D043-4C78-AA46-44B8E2F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5FD24-FC89-4C2C-8982-60CD49A5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5B276-B245-4A19-BF82-56B42141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E642E-3503-432D-A3A6-8A17DE1A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9E1-C24D-45E0-AF6F-C6443C76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141C1-F1B1-4D94-9C04-C141DC6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CE4EE-8A01-4ED7-B5AD-A01CEAE8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8B831-71DE-47C2-8151-687115C2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74E8D-F1F3-4E92-939D-579EE48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CB200-21FB-4EF1-9BEE-D6291A5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046BD-569A-4F4E-84F8-B06FC8F3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45717-2739-4214-9637-2BAD923A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8ABA7-9D9F-46C5-9703-A57D86F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044E-E380-4D21-A6D6-574FAA71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C5677-1BA2-472C-B4A7-F36036AE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9DA-B6CB-4818-9EEC-FD2980BC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9C835-4981-491C-9D3E-A63D71CD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DC50E-0636-4262-8E4A-12A5D7D4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825A9-546A-455E-8172-9B413E53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CB6DA-F2E8-4387-B5E5-9DD0D115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CA09F-219E-493F-8837-886EA52F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3779-3D22-4F2B-A340-5BC2D5A8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8A31-CB8D-4B1B-BCD0-F7C5572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95D27-54FD-4276-B9A6-4D44EDF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B323D-296A-4BEF-B06D-C40BC2E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15E8C-3473-4634-BDB6-40E235F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1068-7229-4FE0-AB83-7AD4116E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D70B0-F771-4D8A-B66C-EB7B4C6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0A5A2-63C4-43FC-ACDC-7308A57C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CA86E-51A8-4C23-B00C-831BA1F2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EA8BF-9E93-43CE-ADEB-14BD83BA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A8521-FA79-4DE9-A908-53D5CDF4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878B6-7AD5-4B50-A763-307E1BE1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A51C2-6EEE-4430-A5C8-FD7CDE54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93783-FBD4-4399-82A0-8CC732D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211D6-F7B3-4E67-AB91-5320D185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31A34-9777-4CA5-9911-934B183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4A6A-170B-4025-BED0-4D48821E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149D8-AF11-47CA-AF2A-28CB90B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4F8E1-E1CE-421D-9863-C9D0D342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B6B4-713E-4FC9-8B30-428336A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50660-1140-4C61-A409-5AFC8C95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C4E75-C376-41B1-8DE1-01B139D1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C2C26-8BFB-4762-8270-0E9C8777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1CA38-6B46-495A-9845-32E67920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6A84D-A283-482D-9125-3ED5E5C7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87FA6-D41D-4153-8EA9-78C8333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516BE-A272-4E5B-9313-37B679CF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C488-102D-453B-BDD2-BCD12094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BBF63-1408-4C30-A628-44E03442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FB856-1166-40D6-B054-E5B4F60D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71CA8-4439-4A42-B30C-DC15DCB3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BE359-DB74-4079-BCA0-4ADD8FD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ACBC4-A81C-489E-B206-E8AA5E3D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635C2-C620-485A-A163-07ED04B0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A23F6-E162-4513-ADE5-CA505DA7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AE1A9-1348-4829-A444-78D8FD91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50582-7A9C-463B-AA8A-4D739077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C5325-D34E-4E58-BBBE-9DF4F781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CEA6-E8E8-4C65-A0A1-2200F469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7DABE-03E5-49B6-9EB2-A49B2D8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C5BF4-F77F-4040-AAE7-730413D5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42850-4DF3-43E7-B7E7-606E710C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BAA76-4137-481C-B1CB-2E0D09D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F99D4-B442-4F74-93AD-4E7A7E1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6830B-0387-43B9-8526-698E8673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EC4A2-6D82-49A3-9714-2ADA7E10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65E3D-8A20-4AF5-8786-A15DFCD7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8CCD2-60F4-45F2-8490-2A8C8016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975B-4303-4CA0-B0EF-1B1263E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A566-9EF5-4277-B8A5-AE8AB21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4237-4B3E-4AC8-9FD2-1E7D926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BBF-0A56-4B5B-83DC-AA25BBA9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0743-9C1B-4ADC-AB07-4A71774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ACBE-4C58-4F62-9846-72A2584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ABA7-DD43-41B3-A45E-226CC42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1C16-16C1-497A-8380-C8E0C632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6FA-3DF1-4F74-8B6B-15238E90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BA91-DA4A-4D17-AC86-0C3F775D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70F0-AF73-4AE3-B70C-21E75F74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E549-B1C3-43DB-AD73-14B4281A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0AB2-2B39-44F8-B7C3-4988638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E051-EE2F-4A75-B7D6-2833401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9CF-3F5A-483E-B9A5-3DE5BF2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4D70-B906-43CF-93D0-44E25378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8E10-8DBE-4B6C-9C39-E974D83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283B-2B40-4232-BEBB-79C1DDF8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4C35-EAC2-48CB-9D68-9A32E7A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6695-AD14-46C4-86C8-62268986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0F28-874D-4013-B1D6-2CE6399B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A99A-BA7C-4891-A5C5-FFF23463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B5B4-04BA-4DBA-AA5E-85F6EBBC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768C0-C07A-4D81-9713-F7D88B9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0DD3-2846-40F2-9687-C82C5B49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B21-00D4-4493-9F0C-234521D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44B0-D72B-4AA6-AD16-0081C3FD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9346-2CC9-44BC-BB1E-4F9E61E5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CAD3-12CA-429A-8984-208B478D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9646-E6AF-46CB-845F-4A9CECB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CC49-8619-45F4-B2D4-914B143A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FE39-F5BD-4036-899A-90234DF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2A2A-7A14-458B-818A-3C1A70F7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6197-1D2C-4DC4-8D90-C9AF32AC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5774-CD12-4867-9791-22E25A4C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079F-FFE5-4651-A059-0986FDCA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4FF-DE02-49BE-8D6F-95A51DFD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B4FE6-832E-4D44-8451-36E9E551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D6E6-9BA1-442D-B5DC-CC72EEF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F378-0A08-4C50-A025-AA335038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2CC6-7657-4CDC-8A0B-9F31C8F0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6B05C-5360-4E42-A182-A2E9F1E7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3380-6E88-4D42-9736-E6B879C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859B-7DDC-4D05-B4D8-A46E978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CB0DD-74D2-40F0-B6BE-89E5B26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1458A-E7CC-4027-BB12-D67F3F63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034A-CC0D-45D5-A2CB-3CCE132B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072-3BBD-4B80-BB2E-BDF36516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D58B-815D-4EA6-806A-A4F23EC2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F83C-ECA6-4B6B-B3EF-C18408A8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702F-F7BB-471F-8725-06FB0394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F45E-F325-406D-8BB0-3B8BBACF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DF4E-80F8-4647-A7C9-D4214E01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0B45-D4EE-43FF-867B-B38CE982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6BDDF-4C5C-4E42-A2C8-FD425C4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D9902-D513-404D-86D0-93BB13A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942B-A0D9-43E3-AFEE-F263E31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88A6-B9F9-4204-91C3-9C3CE57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E5D-4228-46CF-B0F1-6AC6F0C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1B13-AE76-4E9A-A74C-F796C167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A69A-7193-4052-A8C7-12C3EB3B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422A-FD26-4CC8-AF5F-8B025412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2AB6-67BD-444B-B003-F0CBAE54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FF76-6E7D-4F57-8FC6-25D0CD91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C2C4-DE34-4B87-8E8B-C2412035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B656-7E2E-4AB6-BB17-AE47492C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B8C1-9E60-405A-8090-B653B07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E6452-D485-42BB-871D-A4AF467D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9735-6DB4-4954-A629-5ADDE03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D15-D8F6-4D4E-B9AC-6004E3A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4333D-397E-43E9-BAFF-CAEBC3C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4F8B-5B1F-4A6C-AA49-4C9A871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AA074-38B7-44B4-82CE-8BB78E5B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E52EF-7D9B-4FD7-AC64-F9952E11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A3517-6386-4207-B260-EA56EBCD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27CD-C673-47F0-93C2-8E7643A5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AB714-B049-4CFC-8690-6029DA9D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BA0A4-CB42-4735-8CE5-E5F7170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22E1-911A-4612-8903-F7B085CC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A5BD-244E-490B-B9EB-8B086FDF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F9C-19EA-4FBB-84CB-1AF5E64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C5BC-21DF-468C-B35B-EE14C302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31033-C517-4704-8584-2977EDC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2FCB5-ACC3-4C74-9704-6AC2E11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2181D-51F7-46C2-BD69-FA41CA1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4219-08F1-41DF-93C6-94B29246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507A-CA7E-4337-B510-E7013153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16C7-89C6-4543-A35D-98D4A6CD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95CB8-AA6E-48D1-8186-C33E32CC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99A3-9440-4E11-9BE9-E8F88BD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84227-A353-4266-960D-92C1DEC8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8981-1AA3-4942-9138-7ABC7AC9D5A9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6F6-D5F7-4A3D-A30B-619972ECFF22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6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9345-7272-4653-A26D-BEB58E730A30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2"/>
          <p:cNvSpPr/>
          <p:nvPr/>
        </p:nvSpPr>
        <p:spPr>
          <a:xfrm>
            <a:off x="8123400" y="1906560"/>
            <a:ext cx="4068720" cy="4951440"/>
          </a:xfrm>
          <a:prstGeom prst="rect">
            <a:avLst/>
          </a:prstGeom>
          <a:solidFill>
            <a:srgbClr val="cc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Прямоугольник 11"/>
          <p:cNvSpPr/>
          <p:nvPr/>
        </p:nvSpPr>
        <p:spPr>
          <a:xfrm>
            <a:off x="4068720" y="1906560"/>
            <a:ext cx="4067280" cy="495144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0" y="1906560"/>
            <a:ext cx="4068720" cy="4951440"/>
          </a:xfrm>
          <a:prstGeom prst="rect">
            <a:avLst/>
          </a:prstGeom>
          <a:solidFill>
            <a:srgbClr val="cc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BC46-9010-417C-B2C2-A96FC1435B1E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65A-8071-4475-9F34-4BC9845331EE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4221-02E3-4EB5-AB75-033910BEB001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Object 2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sp>
        <p:nvSpPr>
          <p:cNvPr id="586" name="Slide Number"/>
          <p:cNvSpPr/>
          <p:nvPr/>
        </p:nvSpPr>
        <p:spPr>
          <a:xfrm>
            <a:off x="11482920" y="664200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A9561C-2481-4742-9C0F-2B641B6F4661}" type="slidenum">
              <a:rPr b="0" lang="ru-RU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Изображение 9" descr=""/>
          <p:cNvPicPr/>
          <p:nvPr/>
        </p:nvPicPr>
        <p:blipFill>
          <a:blip r:embed="rId2"/>
          <a:stretch/>
        </p:blipFill>
        <p:spPr>
          <a:xfrm>
            <a:off x="8686800" y="152280"/>
            <a:ext cx="3214800" cy="183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A08-B086-4EAE-9864-76FDF4E7951E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Изображение 9" descr=""/>
          <p:cNvPicPr/>
          <p:nvPr/>
        </p:nvPicPr>
        <p:blipFill>
          <a:blip r:embed="rId2"/>
          <a:stretch/>
        </p:blipFill>
        <p:spPr>
          <a:xfrm>
            <a:off x="8694720" y="152280"/>
            <a:ext cx="3200400" cy="183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B73-B72B-4513-8ED1-21AF88D434DE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7574-5411-44BB-8370-00F052699C90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2EB2-017C-4A44-B854-4A1E0AB60315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6D50-2B19-483E-801F-015E4315FEAC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A15-FC5D-460B-A92D-7EA0092F50BA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8"/>
          <p:cNvSpPr/>
          <p:nvPr/>
        </p:nvSpPr>
        <p:spPr>
          <a:xfrm>
            <a:off x="6089760" y="0"/>
            <a:ext cx="609588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BF7F-14C9-4D1D-897C-ADDC69C2D28E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2"/>
          <p:cNvSpPr/>
          <p:nvPr/>
        </p:nvSpPr>
        <p:spPr>
          <a:xfrm>
            <a:off x="8123400" y="1906560"/>
            <a:ext cx="4068720" cy="495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Прямоугольник 11"/>
          <p:cNvSpPr/>
          <p:nvPr/>
        </p:nvSpPr>
        <p:spPr>
          <a:xfrm>
            <a:off x="4068720" y="1906560"/>
            <a:ext cx="4067280" cy="49514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Прямоугольник 8"/>
          <p:cNvSpPr/>
          <p:nvPr/>
        </p:nvSpPr>
        <p:spPr>
          <a:xfrm>
            <a:off x="0" y="1906560"/>
            <a:ext cx="4068720" cy="495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896"/>
                </a:solidFill>
                <a:latin typeface="VTB Group Cond"/>
              </a:rPr>
              <a:t>Click to edit the title text format</a:t>
            </a:r>
            <a:endParaRPr b="1" lang="en-US" sz="28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a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VTB Group Cond Light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382680" y="6472080"/>
            <a:ext cx="758880" cy="384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1141560" y="6472080"/>
            <a:ext cx="4114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EA5-4507-4026-91D3-02194787859D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Рисунок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126720" cy="708804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2320" y="1846080"/>
            <a:ext cx="74977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TB Group Cond"/>
              </a:rPr>
              <a:t>РАСЧЕТНО-КАССОВОЕ ОБСЛУЖИВАНИ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TB Group Cond"/>
              </a:rPr>
              <a:t>ЗАО БАНК ВТБ (БЕЛАРУСЬ)</a:t>
            </a:r>
            <a:endParaRPr b="1" lang="en-US" sz="4000" spc="-1" strike="noStrike">
              <a:solidFill>
                <a:srgbClr val="0a2896"/>
              </a:solidFill>
              <a:latin typeface="VTB Group Cond"/>
            </a:endParaRPr>
          </a:p>
        </p:txBody>
      </p:sp>
      <p:pic>
        <p:nvPicPr>
          <p:cNvPr id="627" name="Изображение 9" descr=""/>
          <p:cNvPicPr/>
          <p:nvPr/>
        </p:nvPicPr>
        <p:blipFill>
          <a:blip r:embed="rId2"/>
          <a:stretch/>
        </p:blipFill>
        <p:spPr>
          <a:xfrm>
            <a:off x="8296200" y="195120"/>
            <a:ext cx="3895920" cy="2233800"/>
          </a:xfrm>
          <a:prstGeom prst="rect">
            <a:avLst/>
          </a:prstGeom>
          <a:ln w="0">
            <a:noFill/>
          </a:ln>
        </p:spPr>
      </p:pic>
      <p:sp>
        <p:nvSpPr>
          <p:cNvPr id="628" name="TextBox 1"/>
          <p:cNvSpPr/>
          <p:nvPr/>
        </p:nvSpPr>
        <p:spPr>
          <a:xfrm>
            <a:off x="10246320" y="62388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Январь 202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31640" y="168120"/>
            <a:ext cx="90964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882"/>
                </a:solidFill>
                <a:latin typeface="VTB Group Cond"/>
              </a:rPr>
              <a:t>Расчетно-кассовое обслуживание с 01.12.2021</a:t>
            </a:r>
            <a:endParaRPr b="1" lang="en-US" sz="20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30" name="Прямая соединительная линия 4"/>
          <p:cNvSpPr/>
          <p:nvPr/>
        </p:nvSpPr>
        <p:spPr>
          <a:xfrm>
            <a:off x="382680" y="822240"/>
            <a:ext cx="760320" cy="0"/>
          </a:xfrm>
          <a:prstGeom prst="line">
            <a:avLst/>
          </a:prstGeom>
          <a:ln w="38160">
            <a:solidFill>
              <a:srgbClr val="00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31" name="Изображение 9" descr=""/>
          <p:cNvPicPr/>
          <p:nvPr/>
        </p:nvPicPr>
        <p:blipFill>
          <a:blip r:embed="rId1"/>
          <a:stretch/>
        </p:blipFill>
        <p:spPr>
          <a:xfrm>
            <a:off x="10474200" y="-158760"/>
            <a:ext cx="1824120" cy="104472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26"/>
          <p:cNvSpPr/>
          <p:nvPr/>
        </p:nvSpPr>
        <p:spPr>
          <a:xfrm>
            <a:off x="162000" y="609480"/>
            <a:ext cx="11849040" cy="362160"/>
          </a:xfrm>
          <a:prstGeom prst="rect">
            <a:avLst/>
          </a:prstGeom>
          <a:solidFill>
            <a:srgbClr val="cc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кеты линейки «Новые возможности»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62000" y="1006560"/>
          <a:ext cx="11849040" cy="5236920"/>
        </p:xfrm>
        <a:graphic>
          <a:graphicData uri="http://schemas.openxmlformats.org/drawingml/2006/table">
            <a:tbl>
              <a:tblPr/>
              <a:tblGrid>
                <a:gridCol w="4219560"/>
                <a:gridCol w="1449360"/>
                <a:gridCol w="1431720"/>
                <a:gridCol w="1484640"/>
                <a:gridCol w="1353960"/>
                <a:gridCol w="1909800"/>
              </a:tblGrid>
              <a:tr h="394200">
                <a:tc>
                  <a:txBody>
                    <a:bodyPr lIns="72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 Старт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 Развитие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Предприниматель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 Комфорт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 Привилегии 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</a:tr>
              <a:tr h="466560">
                <a:tc>
                  <a:txBody>
                    <a:bodyPr lIns="270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ЕЖЕМЕСЯЧНАЯ ПЛАТА</a:t>
                      </a: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, BYN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9 BYN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(первые  2 месяца </a:t>
                      </a: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 0,99 BYN)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BYN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29 </a:t>
                      </a: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BYN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39 </a:t>
                      </a: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BYN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99 </a:t>
                      </a: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BYN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16200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ткрытие счетов и обслуживание счетов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Открытие  первого текущего (расчетного) счета в  национальной валюте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31428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Ведение первого текущего (расчетного) счета в  национальной валюте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Оформление первой карточки с образцами подписей и оттиска печати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31428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Переоформление действующей карточки с образцами подписей и оттиска печати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Предоставление справки, заверение предоставленной клиентом справки или копии документа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16200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латежи в</a:t>
                      </a:r>
                      <a:r>
                        <a:rPr b="1" lang="en-US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ациональной валюте*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44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Электронные документы, поступившие по системе ДБО в национальной валюте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5 шт. - бесплатно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&gt; 5 шт-3 </a:t>
                      </a:r>
                      <a:r>
                        <a:rPr b="0" lang="en-BZ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BYN</a:t>
                      </a: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 за платеж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12 шт. -бесплатно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&gt; 12  шт-1,8 </a:t>
                      </a:r>
                      <a:r>
                        <a:rPr b="0" lang="en-BZ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BYN</a:t>
                      </a: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 за платеж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Безлими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25 шт. -    бесплатно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&gt; 25  шт-1,8 </a:t>
                      </a:r>
                      <a:r>
                        <a:rPr b="0" lang="en-BZ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BYN</a:t>
                      </a:r>
                      <a:r>
                        <a:rPr b="0" lang="en-US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за платеж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365c"/>
                          </a:solidFill>
                          <a:latin typeface="Arial"/>
                        </a:rPr>
                        <a:t>Безлими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1620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латежи иностранной валюте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Платежи в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USD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за пределы РБ (за исключением  переводов  на счета получателей, открытые в Банке </a:t>
                      </a:r>
                      <a:r>
                        <a:rPr b="0" lang="ru-RU" sz="1000" spc="-1" strike="noStrike" u="sng">
                          <a:solidFill>
                            <a:srgbClr val="002882"/>
                          </a:solidFill>
                          <a:uFillTx/>
                          <a:latin typeface="Arial"/>
                        </a:rPr>
                        <a:t>ВТБ (ПАО), РФ)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0,1% от суммы,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ин.  35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акс. 25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0,1% от суммы,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ин. 35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акс. 25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% от суммы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ин. 2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USD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акс.150 USD 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% от суммы,              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ин.   2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USD,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акс. 150 USD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1 перевод = 20 USD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остальные: 0,1% от суммы, мин. 20 USD, макс. 150 USD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6166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Платежи в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EUR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за пределы РБ (за исключением  переводов  на счета получателей, открытые в Банке </a:t>
                      </a:r>
                      <a:r>
                        <a:rPr b="0" lang="ru-RU" sz="1000" spc="-1" strike="noStrike" u="sng">
                          <a:solidFill>
                            <a:srgbClr val="002882"/>
                          </a:solidFill>
                          <a:uFillTx/>
                          <a:latin typeface="Arial"/>
                        </a:rPr>
                        <a:t>ВТБ (ПАО), РФ)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0,1% от суммы,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ин.   35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акс. 25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0,1% от суммы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ин. 35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акс. 25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% от суммы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ин.   2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EUR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,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акс. 150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EU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% от суммы,             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ин.   2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EUR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акс. 150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EU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1 перевод = 15 EUR 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остальные: 0,1% от суммы,  мин. 20 EUR, макс. 150 EU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Платежи в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RUB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за пределы РБ (за исключением  переводов  на счета получателей, открытые в Банке </a:t>
                      </a:r>
                      <a:r>
                        <a:rPr b="0" lang="ru-RU" sz="1000" spc="-1" strike="noStrike" u="sng">
                          <a:solidFill>
                            <a:srgbClr val="002882"/>
                          </a:solidFill>
                          <a:uFillTx/>
                          <a:latin typeface="Arial"/>
                        </a:rPr>
                        <a:t>ВТБ (ПАО), РФ)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0,1% от суммы,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ин.    35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акс. 25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0,1% от суммы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ин. 35 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акс. 250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% от суммы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ин.   10 USD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акс.1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USD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% от суммы,             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ин.   10 USD,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макс. 1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USD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1 перевод = 10 USD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остальные: 0,15% от суммы,    мин. 10 USD, макс. 100 USD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</a:tbl>
          </a:graphicData>
        </a:graphic>
      </p:graphicFrame>
      <p:sp>
        <p:nvSpPr>
          <p:cNvPr id="634" name="Прямая соединительная линия 9"/>
          <p:cNvSpPr/>
          <p:nvPr/>
        </p:nvSpPr>
        <p:spPr>
          <a:xfrm>
            <a:off x="431640" y="503280"/>
            <a:ext cx="1920960" cy="0"/>
          </a:xfrm>
          <a:prstGeom prst="line">
            <a:avLst/>
          </a:prstGeom>
          <a:ln w="38160">
            <a:solidFill>
              <a:srgbClr val="00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666D-F28A-49B8-8FC8-09ACE7B2D6AC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1680" y="142560"/>
            <a:ext cx="9456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882"/>
                </a:solidFill>
                <a:latin typeface="VTB Group Book"/>
              </a:rPr>
              <a:t>Расчетно-кассовое обслуживание с 01.12.2021</a:t>
            </a:r>
            <a:endParaRPr b="1" lang="en-US" sz="2000" spc="-1" strike="noStrike">
              <a:solidFill>
                <a:srgbClr val="0a2896"/>
              </a:solidFill>
              <a:latin typeface="VTB Group Cond"/>
            </a:endParaRPr>
          </a:p>
        </p:txBody>
      </p:sp>
      <p:pic>
        <p:nvPicPr>
          <p:cNvPr id="637" name="Изображение 9" descr=""/>
          <p:cNvPicPr/>
          <p:nvPr/>
        </p:nvPicPr>
        <p:blipFill>
          <a:blip r:embed="rId1"/>
          <a:stretch/>
        </p:blipFill>
        <p:spPr>
          <a:xfrm>
            <a:off x="10493280" y="-34920"/>
            <a:ext cx="1824120" cy="10461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 txBox="1"/>
          <p:nvPr/>
        </p:nvSpPr>
        <p:spPr>
          <a:xfrm>
            <a:off x="391680" y="794880"/>
            <a:ext cx="11409480" cy="384120"/>
          </a:xfrm>
          <a:prstGeom prst="rect">
            <a:avLst/>
          </a:prstGeom>
          <a:solidFill>
            <a:srgbClr val="cceeff"/>
          </a:solidFill>
          <a:ln w="12600">
            <a:solidFill>
              <a:srgbClr val="0070c0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VTB Group Cond"/>
              </a:rPr>
              <a:t>Пакеты линейки «Новые возможности»</a:t>
            </a:r>
            <a:endParaRPr b="0" lang="en-US" sz="1400" spc="-1" strike="noStrike">
              <a:solidFill>
                <a:srgbClr val="262626"/>
              </a:solidFill>
              <a:latin typeface="VTB Group Cond Light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380880" y="1220760"/>
          <a:ext cx="11439720" cy="2705040"/>
        </p:xfrm>
        <a:graphic>
          <a:graphicData uri="http://schemas.openxmlformats.org/drawingml/2006/table">
            <a:tbl>
              <a:tblPr/>
              <a:tblGrid>
                <a:gridCol w="4233960"/>
                <a:gridCol w="1138320"/>
                <a:gridCol w="1152360"/>
                <a:gridCol w="1738440"/>
                <a:gridCol w="1440000"/>
                <a:gridCol w="1736640"/>
              </a:tblGrid>
              <a:tr h="588960">
                <a:tc>
                  <a:txBody>
                    <a:bodyPr lIns="72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 Старт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Развитие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Предприниматель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 Комфорт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Б-Привилегии 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</a:tr>
              <a:tr h="26676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перации с наличными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46656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Прием наличных денежных средств от юридических лиц и индивидуальных предпринимателей через устройства самообслуживания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орпоративные карты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40320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Выпуск и обслуживание</a:t>
                      </a: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корпоративной  карты  Visa Business</a:t>
                      </a: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, ш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2 ш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2 ш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3 ш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5 ш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Зарплатный проект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466560">
                <a:tc>
                  <a:txBody>
                    <a:bodyPr lIns="27000" rIns="720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Зачисление индивидуальным предпринимателям и его работникам выплат в рамках договора на зарплатное обслуживание с использованием банковских карт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*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270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До 0,9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До 0,9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0,5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До 0,9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</a:rPr>
                        <a:t>До 0,9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0" name="Прямая соединительная линия 10"/>
          <p:cNvSpPr/>
          <p:nvPr/>
        </p:nvSpPr>
        <p:spPr>
          <a:xfrm>
            <a:off x="431640" y="503280"/>
            <a:ext cx="1920960" cy="0"/>
          </a:xfrm>
          <a:prstGeom prst="line">
            <a:avLst/>
          </a:prstGeom>
          <a:ln w="38160">
            <a:solidFill>
              <a:srgbClr val="00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Номер слайда 1"/>
          <p:cNvSpPr/>
          <p:nvPr/>
        </p:nvSpPr>
        <p:spPr>
          <a:xfrm>
            <a:off x="9137520" y="6472080"/>
            <a:ext cx="2664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6971-A1FC-4E76-B207-FBBE561117AA}" type="slidenum">
              <a:rPr b="0" lang="ru-RU" sz="1000" spc="-1" strike="noStrike">
                <a:solidFill>
                  <a:srgbClr val="8f8f8f"/>
                </a:solidFill>
                <a:latin typeface="VTB Group Cond Light"/>
                <a:ea typeface="VTB Group Con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31640" y="5111640"/>
          <a:ext cx="11419200" cy="1197000"/>
        </p:xfrm>
        <a:graphic>
          <a:graphicData uri="http://schemas.openxmlformats.org/drawingml/2006/table">
            <a:tbl>
              <a:tblPr/>
              <a:tblGrid>
                <a:gridCol w="968400"/>
                <a:gridCol w="2328840"/>
                <a:gridCol w="1624320"/>
                <a:gridCol w="1022040"/>
                <a:gridCol w="1035360"/>
                <a:gridCol w="1069920"/>
                <a:gridCol w="1906560"/>
                <a:gridCol w="1463760"/>
              </a:tblGrid>
              <a:tr h="152640"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Наименование продукта (услуги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Величина Тарифа 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Условия применения Тарифа (при наличии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Национальная валюта, бел. руб (BYN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Иностранная валюта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EU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RU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CNY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2.1.1.2.2.1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в рамках группы ВТБ*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15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15 EU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900 RU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0,15% от суммы,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мин. 15 USD, макс. 75 US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по факту оказания услуги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882"/>
                          </a:solidFill>
                          <a:latin typeface="Arial"/>
                          <a:ea typeface="Times New Roman"/>
                        </a:rPr>
                        <a:t>*Группа ВТБ – банки ВТБ (ПАО), РФ, VTB (Europe) SE, филиал в г. Шанхай (Китай).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3" name="Прямоугольник 12"/>
          <p:cNvSpPr/>
          <p:nvPr/>
        </p:nvSpPr>
        <p:spPr>
          <a:xfrm>
            <a:off x="374760" y="4137120"/>
            <a:ext cx="114584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*  Комиссионное вознаграждение за зачисление денежных средств не взимается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** Комиссионное вознаграждение устанавливается индивидуально в рамках заявленного фонда оплаты труда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Объект 8" descr=""/>
          <p:cNvPicPr/>
          <p:nvPr/>
        </p:nvPicPr>
        <p:blipFill>
          <a:blip r:embed="rId1"/>
          <a:stretch/>
        </p:blipFill>
        <p:spPr>
          <a:xfrm>
            <a:off x="2668680" y="85896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70000" y="245880"/>
            <a:ext cx="57340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882"/>
                </a:solidFill>
                <a:latin typeface="VTB Group Cond"/>
              </a:rPr>
              <a:t>  </a:t>
            </a:r>
            <a:r>
              <a:rPr b="1" lang="ru-RU" sz="2000" spc="-1" strike="noStrike">
                <a:solidFill>
                  <a:srgbClr val="002882"/>
                </a:solidFill>
                <a:latin typeface="VTB Group Cond"/>
              </a:rPr>
              <a:t>Дополнительные опции</a:t>
            </a:r>
            <a:endParaRPr b="1" lang="en-US" sz="2000" spc="-1" strike="noStrike">
              <a:solidFill>
                <a:srgbClr val="0a2896"/>
              </a:solidFill>
              <a:latin typeface="VTB Group Cond"/>
            </a:endParaRPr>
          </a:p>
        </p:txBody>
      </p:sp>
      <p:sp>
        <p:nvSpPr>
          <p:cNvPr id="646" name="TextBox 7"/>
          <p:cNvSpPr/>
          <p:nvPr/>
        </p:nvSpPr>
        <p:spPr>
          <a:xfrm>
            <a:off x="838080" y="860400"/>
            <a:ext cx="1048716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Дополнительная опция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позволяет </a:t>
            </a:r>
            <a:r>
              <a:rPr b="0" lang="ru-RU" sz="1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докупить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нужный объем самых востребованных в пакете услуг или дополнить пакет новыми услугами. </a:t>
            </a:r>
            <a:r>
              <a:rPr b="0" lang="ru-RU" sz="1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Стоимость опции взимается дополнительно к стоимости пакета услуг. 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Дополнительная опция (далее – опция)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подключается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 по заявлению клиента одновременно с пакетом услуг или в любое другое время в течение действия пакета услуг.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Подключение опции осуществляется с любой даты, следующей за датой подачи Заявления в Банк.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Период использования опции равен 1 календарному месяцу.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Количество подключений опций в течение месяца -  не ограниченное количество раз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TextBox 9"/>
          <p:cNvSpPr/>
          <p:nvPr/>
        </p:nvSpPr>
        <p:spPr>
          <a:xfrm>
            <a:off x="838080" y="3176640"/>
            <a:ext cx="64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Перечень дополнительных услуг/ опций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Прямая соединительная линия 11"/>
          <p:cNvSpPr/>
          <p:nvPr/>
        </p:nvSpPr>
        <p:spPr>
          <a:xfrm>
            <a:off x="431640" y="665280"/>
            <a:ext cx="1920960" cy="0"/>
          </a:xfrm>
          <a:prstGeom prst="line">
            <a:avLst/>
          </a:prstGeom>
          <a:ln w="38160">
            <a:solidFill>
              <a:srgbClr val="00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9" name="Изображение 9" descr=""/>
          <p:cNvPicPr/>
          <p:nvPr/>
        </p:nvPicPr>
        <p:blipFill>
          <a:blip r:embed="rId2"/>
          <a:stretch/>
        </p:blipFill>
        <p:spPr>
          <a:xfrm>
            <a:off x="10493280" y="-34920"/>
            <a:ext cx="1824120" cy="10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0" name=""/>
          <p:cNvGraphicFramePr/>
          <p:nvPr/>
        </p:nvGraphicFramePr>
        <p:xfrm>
          <a:off x="838080" y="3494160"/>
          <a:ext cx="10755360" cy="2500200"/>
        </p:xfrm>
        <a:graphic>
          <a:graphicData uri="http://schemas.openxmlformats.org/drawingml/2006/table">
            <a:tbl>
              <a:tblPr/>
              <a:tblGrid>
                <a:gridCol w="4527720"/>
                <a:gridCol w="1060560"/>
                <a:gridCol w="1155600"/>
                <a:gridCol w="1346040"/>
                <a:gridCol w="1251000"/>
                <a:gridCol w="1414440"/>
              </a:tblGrid>
              <a:tr h="5871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именование пакета вознаграждений за услуги (тарифного плана). 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ТБ-Старт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ТБ-Развитие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ТБ-Предприниматель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ТБ-Комфорт/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ТБ-Комфорт+ 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ТБ-Привилегии/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ТБ-Привилегии +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00aaff"/>
                    </a:solidFill>
                  </a:tcPr>
                </a:tc>
              </a:tr>
              <a:tr h="862200">
                <a:tc>
                  <a:txBody>
                    <a:bodyPr lIns="4680" rIns="4680" tIns="4680" bIns="0" anchor="ctr">
                      <a:noAutofit/>
                    </a:bodyPr>
                    <a:p>
                      <a:pPr marL="87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пция "Платежи плюс":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сполнение электронных документов в национальной валюте, поступивших по системе ДБО, в том числе мгновенных платежей 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шт. -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BYN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 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шт. -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3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BYN 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шт. -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BYN  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шт. -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BYN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 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шт. -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3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BYN 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шт. -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</a:t>
                      </a:r>
                      <a:r>
                        <a:rPr b="0" lang="sv-SE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BYN  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  <a:tr h="542880">
                <a:tc>
                  <a:txBody>
                    <a:bodyPr lIns="4680" rIns="4680" tIns="4680" bIns="0" anchor="ctr">
                      <a:noAutofit/>
                    </a:bodyPr>
                    <a:p>
                      <a:pPr marL="87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пция "Выдача наличных":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ыдача  наличных с расчетного счета 3 000 BYN в месяц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 BYN/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 BYN/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 BYN/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4680" rIns="4680" tIns="4680" bIns="0" anchor="ctr">
                      <a:noAutofit/>
                    </a:bodyPr>
                    <a:p>
                      <a:pPr marL="87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пция "Касса плюс ":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ем наличных денежных средств через кассу 30 000 BYN в месяц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 BYN/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 BYN/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 BYN/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7f1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4T14:42:55Z</dcterms:created>
  <dc:creator>пользователь Microsoft Office</dc:creator>
  <dc:description/>
  <dc:language>en-US</dc:language>
  <cp:lastModifiedBy>Кисловская ДВ</cp:lastModifiedBy>
  <cp:lastPrinted>2021-10-13T07:12:39Z</cp:lastPrinted>
  <dcterms:modified xsi:type="dcterms:W3CDTF">2021-12-13T06:09:32Z</dcterms:modified>
  <cp:revision>47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7346EDED6687248A0D681FFEB3F470E</vt:lpwstr>
  </property>
</Properties>
</file>