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85C-329C-4C7C-BF86-A5F5B2F9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FFC-EA6E-4C07-8CEB-9486E13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B2A-1FD0-40AD-AC88-AA90F0DA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74F-A92F-4BFB-B5A1-2F5FC0CF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47AC-2F2D-4DD7-BE5C-E2B6F26D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94E6-CAF8-4207-B863-5F32E897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69E8-8A87-4256-ABD7-02B2279D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31B3-39C7-499D-A5DC-1C549801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B827-1A0B-4FA6-A1B3-F7A5A2C6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94A-D208-4D6F-A685-8B1A72C7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9A03-DD29-4914-A94B-37805A0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BE9-3EB1-4DA4-88A4-82B7712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EC09-5ED7-4BD2-B537-64B7D9F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7247-37E7-4259-8F80-613CD51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B16E-FEAF-4F2B-A134-7E8219F9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6739-4E2B-45FE-81C0-9DBDEB1A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E45C-E346-47A7-809F-4E0092D0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5FD-8F69-4DD5-A873-F0F05F9F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67E-45E8-4339-925D-7F55BE54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52A-94AC-4A70-9CB5-9408ADD6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81F-945C-4821-8D52-B9EEFD18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A4E-905C-48A1-B530-3ADF6364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DA9-3CB4-48D7-B6C8-5745738F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116-A08B-4174-9126-B3EAD6BD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0713-E6D3-458C-ABA7-98D33390F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C920-DD1F-403C-A417-80D3A21AA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belarusbank.by/ru/33139/10373/24806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hablon_1_rus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648240" y="2205000"/>
            <a:ext cx="55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РАСЧЕТНОЕ ОБСЛУЖ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ижний колонтитул 6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46D6-E034-484A-9A30-4F4CECAAE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Shablon_1_rus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3487680" y="674640"/>
            <a:ext cx="5981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кументы, необходимые для открытия счет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4862520" y="1214280"/>
            <a:ext cx="5400720" cy="91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я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ткрытие сч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ия устава (учредительного догов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его штамп, свидетельствующий о проведении государственной регистрации, и заверенного субъектом хозяй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4648320" y="6093000"/>
            <a:ext cx="5762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* данные документы представляются в учреждение банка при открытии счетов представительству (филиалу) нерезиден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4871880" y="2205000"/>
            <a:ext cx="540072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я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ткрытие сч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ия свидетельства о государственной регистр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веряется субъектом хозяйств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4871880" y="3097080"/>
            <a:ext cx="5391360" cy="193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явл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на открытие счета (с указанием типа счета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пия выписки из торгового регист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траны учреждения нерезидента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или иное эквивалентное доказательство юридического статуса в соответствии с законодательством страны его учрежд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пия устава и (или) учредительного догово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, на основании которых нерезидент действует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пия положения об обособленном подразделени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, иного аналогичного документа*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пия разрешения Министерства иностранных дел РБ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на открытие представительства, верность которой свидетельствована нотариально либо владельцем счета*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7"/>
          <p:cNvSpPr/>
          <p:nvPr/>
        </p:nvSpPr>
        <p:spPr>
          <a:xfrm>
            <a:off x="2260440" y="5373720"/>
            <a:ext cx="80409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о могут представляться иные документы, предусмотренные актами законодательства и локальными нормативными актами банка, в том числ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ник для клиента – организации/индивидуального предпринимат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мках исполнения требований по ПОД/ФТ (в случае его отсутствия в бан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949400" y="5373720"/>
            <a:ext cx="330120" cy="646200"/>
          </a:xfrm>
          <a:prstGeom prst="rect">
            <a:avLst/>
          </a:prstGeom>
          <a:ln w="0">
            <a:noFill/>
          </a:ln>
        </p:spPr>
      </p:pic>
      <p:sp>
        <p:nvSpPr>
          <p:cNvPr id="93" name="Выноска со стрелкой вправо 2"/>
          <p:cNvSpPr/>
          <p:nvPr/>
        </p:nvSpPr>
        <p:spPr>
          <a:xfrm>
            <a:off x="2114640" y="1214280"/>
            <a:ext cx="2747880" cy="919440"/>
          </a:xfrm>
          <a:prstGeom prst="rightArrowCallout">
            <a:avLst>
              <a:gd name="adj1" fmla="val 25002"/>
              <a:gd name="adj2" fmla="val 25000"/>
              <a:gd name="adj3" fmla="val 24988"/>
              <a:gd name="adj4" fmla="val 64977"/>
            </a:avLst>
          </a:prstGeom>
          <a:solidFill>
            <a:srgbClr val="ccffcc"/>
          </a:solidFill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юридические лица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зиден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Выноска со стрелкой вправо 19"/>
          <p:cNvSpPr/>
          <p:nvPr/>
        </p:nvSpPr>
        <p:spPr>
          <a:xfrm>
            <a:off x="2124000" y="2205000"/>
            <a:ext cx="2747880" cy="79236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ccffcc"/>
          </a:solidFill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видуальны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приниматели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двокаты, нотариу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Выноска со стрелкой вправо 20"/>
          <p:cNvSpPr/>
          <p:nvPr/>
        </p:nvSpPr>
        <p:spPr>
          <a:xfrm>
            <a:off x="2130480" y="3108240"/>
            <a:ext cx="2746440" cy="1943280"/>
          </a:xfrm>
          <a:prstGeom prst="rightArrowCallout">
            <a:avLst>
              <a:gd name="adj1" fmla="val 25002"/>
              <a:gd name="adj2" fmla="val 25000"/>
              <a:gd name="adj3" fmla="val 25008"/>
              <a:gd name="adj4" fmla="val 64977"/>
            </a:avLst>
          </a:prstGeom>
          <a:solidFill>
            <a:srgbClr val="ccffcc"/>
          </a:solidFill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юридические лица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резиден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6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785C-1AA6-4186-8CF5-EA2A7C98F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Shablon_1_rus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 rot="183000">
            <a:off x="8602560" y="5151600"/>
            <a:ext cx="13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www.belarusbank.b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83C6-B84E-42C8-A826-02E9E73C2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924200" y="1262160"/>
            <a:ext cx="8343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я клиентом времени за счет открытия текущего (расчетного) счета БЕЗ ПОСЕЩЕНИЯ БАНК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только для действующих клиенто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ижение бумажного документообор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2782800" y="585720"/>
            <a:ext cx="73598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Открытие текущих (расчетных) счетов на условиях публичной оферт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pic>
        <p:nvPicPr>
          <p:cNvPr id="102" name="Picture 2" descr="http://alumsk.ru/wp-content/uploads/2016/09/a_a_Preimushestva.jpg"/>
          <p:cNvPicPr/>
          <p:nvPr/>
        </p:nvPicPr>
        <p:blipFill>
          <a:blip r:embed="rId2"/>
          <a:stretch/>
        </p:blipFill>
        <p:spPr>
          <a:xfrm>
            <a:off x="2347920" y="558720"/>
            <a:ext cx="384120" cy="351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5"/>
          <p:cNvSpPr/>
          <p:nvPr/>
        </p:nvSpPr>
        <p:spPr>
          <a:xfrm>
            <a:off x="2695680" y="2678040"/>
            <a:ext cx="753408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змещение банком условий публичной оферты в сети Интернет на корпоративном сайте банка по адресу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ww.belarusbank.by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кцепт клиентом публичной оферты банка путем представления заявления на открытие текущего (расчетного) банковского счета на условиях публичной оферты на бумажном носителе в 2 (двух) экземплярах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(для новых клиентов)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ли в электронном виде посредством ПК «Клиент-банк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»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(для действующих клиентов)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, подписанного от имени владельца счета лицом, имеющим полномочия на открытие сч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ополнительно клиентом в банк предоставляется полный комплект (пакет) документов, необходимых для открытия счета, а также проведения идентификации Владельца счета в соответствии с законодательство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крытие счета не позднее рабочего дня, следующего за днем акцепта публичной офер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вление банком уведомления клиенту об открытии сч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29"/>
          <p:cNvSpPr/>
          <p:nvPr/>
        </p:nvSpPr>
        <p:spPr>
          <a:xfrm>
            <a:off x="2220840" y="2738520"/>
            <a:ext cx="414360" cy="419040"/>
          </a:xfrm>
          <a:prstGeom prst="ellipse">
            <a:avLst/>
          </a:prstGeom>
          <a:solidFill>
            <a:srgbClr val="d8e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945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03880" y="949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7c7c"/>
                </a:solidFill>
                <a:latin typeface="Calibri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367160" y="227808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7c7c"/>
                </a:solidFill>
                <a:latin typeface="Calibri"/>
              </a:rPr>
              <a:t>Последовательность действ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36"/>
          <p:cNvSpPr/>
          <p:nvPr/>
        </p:nvSpPr>
        <p:spPr>
          <a:xfrm>
            <a:off x="2220840" y="3382920"/>
            <a:ext cx="414360" cy="419040"/>
          </a:xfrm>
          <a:prstGeom prst="ellipse">
            <a:avLst/>
          </a:prstGeom>
          <a:solidFill>
            <a:srgbClr val="d8e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945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37"/>
          <p:cNvSpPr/>
          <p:nvPr/>
        </p:nvSpPr>
        <p:spPr>
          <a:xfrm>
            <a:off x="2220840" y="5011560"/>
            <a:ext cx="414360" cy="417600"/>
          </a:xfrm>
          <a:prstGeom prst="ellipse">
            <a:avLst/>
          </a:prstGeom>
          <a:solidFill>
            <a:srgbClr val="d8e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945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38"/>
          <p:cNvSpPr/>
          <p:nvPr/>
        </p:nvSpPr>
        <p:spPr>
          <a:xfrm>
            <a:off x="2220840" y="5599080"/>
            <a:ext cx="414360" cy="419040"/>
          </a:xfrm>
          <a:prstGeom prst="ellipse">
            <a:avLst/>
          </a:prstGeom>
          <a:solidFill>
            <a:srgbClr val="d8e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945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4" descr="http://www.inetkomp.ru/images/04.09.2015/04.jpg"/>
          <p:cNvPicPr/>
          <p:nvPr/>
        </p:nvPicPr>
        <p:blipFill>
          <a:blip r:embed="rId3"/>
          <a:stretch/>
        </p:blipFill>
        <p:spPr>
          <a:xfrm>
            <a:off x="8115480" y="1662120"/>
            <a:ext cx="2287440" cy="9619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0"/>
          <p:cNvSpPr/>
          <p:nvPr/>
        </p:nvSpPr>
        <p:spPr>
          <a:xfrm rot="183000">
            <a:off x="9249840" y="1860120"/>
            <a:ext cx="938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ww.belarusbank.b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Shablon_1_rus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2292480" y="595440"/>
            <a:ext cx="78213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Times New Roman"/>
              </a:rPr>
              <a:t>ПАКЕТЫ УСЛУГ по расчетно-кассовому обслуживанию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Times New Roman"/>
              <a:ea typeface="Times New Roman"/>
            </a:endParaRPr>
          </a:p>
        </p:txBody>
      </p:sp>
      <p:pic>
        <p:nvPicPr>
          <p:cNvPr id="114" name="Схема 14" descr=""/>
          <p:cNvPicPr/>
          <p:nvPr/>
        </p:nvPicPr>
        <p:blipFill>
          <a:blip r:embed="rId2"/>
          <a:stretch/>
        </p:blipFill>
        <p:spPr>
          <a:xfrm>
            <a:off x="2712960" y="1054080"/>
            <a:ext cx="3333960" cy="5402160"/>
          </a:xfrm>
          <a:prstGeom prst="rect">
            <a:avLst/>
          </a:prstGeom>
          <a:ln w="0">
            <a:noFill/>
          </a:ln>
        </p:spPr>
      </p:pic>
      <p:pic>
        <p:nvPicPr>
          <p:cNvPr id="115" name="Схема 16" descr=""/>
          <p:cNvPicPr/>
          <p:nvPr/>
        </p:nvPicPr>
        <p:blipFill>
          <a:blip r:embed="rId3"/>
          <a:stretch/>
        </p:blipFill>
        <p:spPr>
          <a:xfrm>
            <a:off x="6407280" y="993600"/>
            <a:ext cx="3138480" cy="47484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4"/>
          <a:stretch/>
        </p:blipFill>
        <p:spPr>
          <a:xfrm>
            <a:off x="9696600" y="1030320"/>
            <a:ext cx="779400" cy="7794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6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F898-DAE4-4CC0-8951-7BAA55C81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hablon_1_rus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2927520" y="549360"/>
            <a:ext cx="67323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Times New Roman"/>
              </a:rPr>
              <a:t>Особенности целевой аудитории потребителей пакетов услуг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Times New Roman"/>
              <a:ea typeface="Times New Roman"/>
            </a:endParaRPr>
          </a:p>
        </p:txBody>
      </p:sp>
      <p:sp>
        <p:nvSpPr>
          <p:cNvPr id="120" name="Нижний колонтитул 6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3C67-2FC1-47DB-901D-E11B5966A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47880" y="944640"/>
          <a:ext cx="8496360" cy="5211720"/>
        </p:xfrm>
        <a:graphic>
          <a:graphicData uri="http://schemas.openxmlformats.org/drawingml/2006/table">
            <a:tbl>
              <a:tblPr/>
              <a:tblGrid>
                <a:gridCol w="1871640"/>
                <a:gridCol w="6624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ак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клиентск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НАВСТРЕЧ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ИП и коммерческих организаций категории МСБ в соответствии с законодательством при услов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ИП, учредителя (акционера) или одного из участников (акционеров) субъекта хозяйствования (с долей участия ≥ 50%) на момент гос. регистрации не превышал 31 г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омента гос. регистрации клиента до даты открытия счета в банке прошло не более 6 месяце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ет в банке открывается клиентом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Й-Ш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ИП и коммерческих организаций категории МСБ в соответствии с законодательством при услов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омента гос. регистрации клиента до даты открытия счета в банке прошло не более 6 месяце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ет в банке открывается клиентом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Й-ПРОФСОЮ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ессиональных союз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ИП, микро- и малых организаций с численностью не более 100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Й-3 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ИП, микроорганизаций с численностью не более 15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юбых клиентов (актуально для предприятий малого и микробизне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юбых клиентов (актуально для предприятий торговли и серви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юбых клиентов (актуально для предприятий малого и среднего бизне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Д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юбых клиентов (актуально для предприятий среднего бизне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роме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limit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li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юбых клиентов (актуально для предприятий крупного бизне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коммерческих организаций с численностью работников более 100 человек при услов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ет в банке открывается клиентом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«бумажных» клиентов (при отсутствии операций по системе «Клиент-банк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Shablon_1_rus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2028960" y="981000"/>
            <a:ext cx="83437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разных масштабов бизнеса и потребност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щение  и  оптимизация  затрат   за  банковское   обслужи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добство    расчетов    –    оплата     стоимости    услуг     по    пакету  производится  один  раз в  месяц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 ДОПОЛНИТЕЛЬНОГО ВЗИМАНИЯ ПЛАТ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уществля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крытие текущего (расчетного) счета в белорусских рублях, подключаемого к пакету услу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уществление «электронных» переводов в белорусских рублях в количестве, предусмотренном пакетом услу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ем наличных денежных средств в белорусских рублях, без ограничения из объема, с последующим перечислением на текущий (расчетный) счет клиента, подключенный к пакету услу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служивание международной корпоративной банковской платежной карточ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card Business, Visa Busines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ечение срока ее действия (от 3 до 5 штук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2959200" y="592200"/>
            <a:ext cx="6483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ПРЕИМУЩЕСТВА "пакетного" обслуживан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pic>
        <p:nvPicPr>
          <p:cNvPr id="125" name="Picture 2" descr="http://alumsk.ru/wp-content/uploads/2016/09/a_a_Preimushestva.jpg"/>
          <p:cNvPicPr/>
          <p:nvPr/>
        </p:nvPicPr>
        <p:blipFill>
          <a:blip r:embed="rId2"/>
          <a:stretch/>
        </p:blipFill>
        <p:spPr>
          <a:xfrm>
            <a:off x="2523960" y="565200"/>
            <a:ext cx="382680" cy="3506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795760" y="5232240"/>
            <a:ext cx="7475400" cy="10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Абонентная плата за обслуживание счета по пакету услуг  </a:t>
            </a: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НЕ ВЗИМАЕТСЯ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за календарные месяцы (за исключением первого), в которых операции по зачислению/списанию денежных средств по счету клиента, подключенному к пакету услуг, отсутствовал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cernis.ru/image/data/static/1024.jpg"/>
          <p:cNvPicPr/>
          <p:nvPr/>
        </p:nvPicPr>
        <p:blipFill>
          <a:blip r:embed="rId3"/>
          <a:stretch/>
        </p:blipFill>
        <p:spPr>
          <a:xfrm>
            <a:off x="2252520" y="5253120"/>
            <a:ext cx="543240" cy="54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CF3D-7DF7-4334-A422-3BB46ED6D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Shablon_1_rus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2782800" y="476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Состав пакетов услуг по расчетно-кассовому обслужив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81360" y="973080"/>
          <a:ext cx="8429400" cy="4832280"/>
        </p:xfrm>
        <a:graphic>
          <a:graphicData uri="http://schemas.openxmlformats.org/drawingml/2006/table">
            <a:tbl>
              <a:tblPr/>
              <a:tblGrid>
                <a:gridCol w="3028680"/>
                <a:gridCol w="538200"/>
                <a:gridCol w="503280"/>
                <a:gridCol w="504720"/>
                <a:gridCol w="432000"/>
                <a:gridCol w="414360"/>
                <a:gridCol w="415800"/>
                <a:gridCol w="576360"/>
                <a:gridCol w="576360"/>
                <a:gridCol w="502920"/>
                <a:gridCol w="505080"/>
                <a:gridCol w="431640"/>
              </a:tblGrid>
              <a:tr h="383400"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ерации, входящей в пакет усл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НА-ВСТРЕ-ЧУ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-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-СПЕК-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-В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-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Д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-ТА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союз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 сче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204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детельствование карточки с образцами подпис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1240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онентная плата за пользование системой «Клиент-банк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8708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ные переводы в белорусских рублях (кроме срочных), кол-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огран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огран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     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     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  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lim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3076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ные переводы в белорусских рублях  в виде срочных платежей, кол-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932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ы в белорусских рублях (кроме срочных) без использования системы «Клиент-банк», кол-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2868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наличных денежных средств в белорусских рублях с перечислением на счет клиента, подключенный к соответствующему пакету усл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680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ещение электронных платежных поручений клиента в АИС ИДО и их сопровожд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6740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ение дополнительного экземпляра платежного пор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7676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ча дубликата выписки из лицевого сче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2868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международной корпоративной банковской платежной карточки Mastercard Business, Visa Business в течение срока ее действия, кол-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1924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вайринг по карточкам ОАО «АСБ Беларусбанк» (кроме интернет- и мобильного эквайринга), % от сум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87200">
                <a:tc>
                  <a:txBody>
                    <a:bodyPr lIns="41760" rIns="41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й эквайринг, % от сум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условий принятого к исполнению платежного документа клиента в белорусских рублях (сопровождение постоянно действующего платежного поруч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исление и выплата сумм (с использованием банковских платежных карточек) на счета физических лиц, % от сум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‒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исление денежных средств на счета в белорусских рублях при выдаче корпоративных банковских платежных карточ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492"/>
          <p:cNvSpPr/>
          <p:nvPr/>
        </p:nvSpPr>
        <p:spPr>
          <a:xfrm>
            <a:off x="3541680" y="1278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4369-4099-4B01-8AF2-90A943453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2639880" y="5881680"/>
            <a:ext cx="453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* максимальный срок пользования клиента данным пакетом – 12 (двенадцать) календарных месяце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** для пакета БАЗИС – «бумажные» платежные инструк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Shablon_1_rus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782800" y="476280"/>
            <a:ext cx="7272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92"/>
          <p:cNvSpPr/>
          <p:nvPr/>
        </p:nvSpPr>
        <p:spPr>
          <a:xfrm>
            <a:off x="3541680" y="1278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ижний колонтитул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1595-04A7-46E0-904F-A24720BE9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341440" y="876240"/>
            <a:ext cx="758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С информацией об актуальных вознаграждениях, взимаемых при обслуживании по пакетам услуг можно ознакомиться на сайте банка в бло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«О банке», перейдя во вкладку «Вознаграждения за операции, выполняемые банком» и кликнув по разделу «Пакеты услуг для клиентов-юридических лиц и индивидуальных предпринимателей», либо перейдя по ссылке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belarusbank.by/ru/33139/10373/24806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0T07:28:18Z</dcterms:created>
  <dc:creator>Засимович Кирилл Николаевич</dc:creator>
  <dc:description/>
  <dc:language>en-US</dc:language>
  <cp:lastModifiedBy>Кисловская ДВ</cp:lastModifiedBy>
  <cp:lastPrinted>2021-12-10T07:36:00Z</cp:lastPrinted>
  <dcterms:modified xsi:type="dcterms:W3CDTF">2021-12-10T11:19:30Z</dcterms:modified>
  <cp:revision>4</cp:revision>
  <dc:subject/>
  <dc:title>Презентация PowerPoint</dc:title>
</cp:coreProperties>
</file>